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6B4-3ECE-4166-ADE4-2125C0B8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361-9C51-43A5-AB44-F348EFDC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EAB-097A-47C5-810A-76770656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2AC-3338-47F8-9D73-9C2FE52E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6B36-BE28-4B92-9287-2FFF9353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B347-36F8-49E3-965D-D9EAA8FB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4047-BBEA-494E-B892-9D823BAA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87F8-B6AE-423A-AE91-8CD7AE32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0D28-4D6B-4934-B829-B6D2B207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7C4A-7967-4235-83CA-CCA1BEF5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287B-2EB2-4314-9563-ADACB2EE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AED-7BC1-4142-860E-31E6D82D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A9AC-97EE-4CF4-A2CA-7D7012FA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E5D3-3CC0-4B1A-9A8D-E889F902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2016-B171-4261-B8AB-A20580AC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1E3C-7E36-4C86-994C-08DFC37A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3EF1-FF25-41A8-8DD9-D203F37E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83C82-46B5-49C7-9F04-76C9A3CF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D4703-FDE9-48E0-B8DB-9575D979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C4848-46D2-4C86-9603-9B83B793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06F07-BBA8-48AD-B124-83457BE3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A87BF-ACE7-4C31-AC29-AB54C8DB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E9A-81A5-4AC7-9596-FF6174E3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18A08-8306-491F-900E-292F011D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BD3D8-7007-4FAC-81C3-D7C1B206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66D58-150E-4E7E-AB28-897D4CE6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BD781-95CC-4B46-BA1F-5FF963B1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24D8C-B9CE-4F62-B19B-44233BB5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97BDD-52D9-4E3B-8879-7F6B592C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78F93-A5BC-4D02-8047-B310546F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7F7EF-327B-42F5-91FC-C0A96DDB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1CC06-7963-495A-9C97-1FDF9BD3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8D84C-4DE9-4537-A630-F09975F9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D6B-6388-4D23-A818-2D4E7E0E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D21E8-C765-4D07-B129-D660B385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673BD-C5AB-4EA1-B83F-F8BB40B1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B5C6A-B6C6-4891-BAC0-74567FF6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0EC0-4D15-4EA8-96A5-E501618C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ED472-59B0-4E19-87EE-E13F5E9D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B94A2-7BB4-45CA-9593-C1398FC5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44575-3559-4181-9EDA-BC040C0C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5EF7F-CCF7-49BE-9E98-42891553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C57AB-030F-4242-9775-4B5FDF20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77628-8A88-40AC-8DEE-621938BE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5CE-A46C-45B0-BAAC-8B78B1C9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C5C32-3FA3-4D83-B82F-90AE784B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DEEA1-0CA7-431B-B746-17A5B4E1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CFCCF-BCD8-4250-9348-ACA64DCB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5F6B6-228C-44E7-9F25-0D4B176C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2774C-0DA6-452A-9B7A-04A4A023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D6D5D-A1ED-4DFC-8BF1-91C83101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A8E53-4646-4B13-BC97-CB0E65BC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68D90-5BB7-4F99-AF60-B181AE8F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52018-3E0C-4DC5-AE30-03DCF374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3A3CE-DDF5-4666-9EB4-41631F87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D66D-BA11-41A6-8F7B-272C67AC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6530A-8C9D-47F1-A11E-852CB917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53C707-0C48-4863-A736-DDDB23AE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D3580-75ED-4D61-BD63-D4721190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38B991-CC56-4033-B8A5-2D9D3BFE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57AAAA-A660-43C6-AA7D-A568DE31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FA5EF-7760-4DF3-8BC8-2C57E973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D0E71-DD30-402D-BBB9-FB55FC52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625D9-71AD-4B08-9AD1-09158932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9F298-5F76-4E65-A22C-971A83F0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7D6F9-EA0E-4544-85FD-00D826F0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B6F-C254-400F-B2B7-43006304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8B803C-F92B-4091-8C31-0849ADDD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9EDC8-526B-4896-977B-D72FE5CC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8C78B-F21C-41B6-8611-0791294A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0ED24-3E7E-430E-9433-CFF214B3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826D4F-0576-4918-9E9F-F7442B92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6BB4D-A01B-4CD6-824C-449AD69B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4FBC9-9C80-4CB9-A747-AE812E3B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5D35A0-DC5F-4CC0-B919-304D3C70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52DC17-1940-4701-84EF-06B45C16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B23D93-2EBD-49E7-9F3A-37B14D4A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AE1-D3AE-4820-83FE-5764E321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24287-2B2C-4995-A72B-BF25184F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0D7A5-98A8-487F-BB80-3D1959A9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A0E56-6E4B-4CB5-AFC3-C0DF915A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743B8A-DBA1-4C42-8F37-4FEC64A5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3BA8CA-D9D9-4EE0-AFDC-C0888A1B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5FF-BE8A-4999-A22F-9369E5CB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BFCE-67F7-4B7E-982B-92CE823B7E8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1A6A-A7A6-47BD-8423-15BBEE2FEF9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0C8F-B0C4-43F6-9FC6-C7ECDBCE26B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EEE6-0364-4531-8538-2DAEEF9D86B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ADDF-B459-4D75-BDF7-B2240231717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5AA8-3DAB-4850-A4FC-C6EB82AB5A1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B119-3AA3-4806-B8BD-3C5993222A2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www.uztest.ru/" TargetMode="External"/><Relationship Id="rId3" Type="http://schemas.openxmlformats.org/officeDocument/2006/relationships/hyperlink" Target="http://www.matform.ru/" TargetMode="External"/><Relationship Id="rId4" Type="http://schemas.openxmlformats.org/officeDocument/2006/relationships/hyperlink" Target="http://www.pm298.ru/" TargetMode="Externa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71760" y="142920"/>
            <a:ext cx="721512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668c4"/>
                </a:solidFill>
                <a:latin typeface="Century Schoolbook"/>
              </a:rPr>
              <a:t>ТЕМА ИССЛЕДОВАНИЯ:</a:t>
            </a:r>
            <a:br>
              <a:rPr sz="2700"/>
            </a:b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 ФУНКЦИЯ, ОБЛАСТЬ ОПРЕДЕЛЕНИЯ И ОБЛАСТЬ ЗНАЧЕНИЙ ФУНКЦИИ. СВОЙСТВА ФУНКЦИЙ: МОНОТОННОСТЬ, ЧЕТНОСТЬ И НЕЧЕТНОСТЬ, ПЕРИОДИЧНОСТЬ, ОГРАНИЧЕННОСТЬ.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5715000" y="35719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Ав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лышев В., Тарасова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4071960" y="442908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нуфриев Д.- 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3286080" y="6143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ыктывкар,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3"/>
          <p:cNvSpPr/>
          <p:nvPr/>
        </p:nvSpPr>
        <p:spPr>
          <a:xfrm>
            <a:off x="2143080" y="3571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e39"/>
                </a:solidFill>
                <a:uFillTx/>
                <a:latin typeface="Century Schoolbook"/>
              </a:rPr>
              <a:t>Проблемны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2214720" y="1285920"/>
            <a:ext cx="61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ля чего нужны промежутки и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ыколотые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то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\\Oomph\!!!Входни!!!\13.jpeg"/>
          <p:cNvPicPr/>
          <p:nvPr/>
        </p:nvPicPr>
        <p:blipFill>
          <a:blip r:embed="rId1"/>
          <a:stretch/>
        </p:blipFill>
        <p:spPr>
          <a:xfrm>
            <a:off x="3643200" y="2214720"/>
            <a:ext cx="284652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2500200" y="157176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e39"/>
                </a:solidFill>
                <a:latin typeface="Century Schoolbook"/>
              </a:rPr>
              <a:t>Цели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1928880" y="25002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яснить как можно записать область определения и область значения, используя промежутки 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колоты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3"/>
          <p:cNvSpPr/>
          <p:nvPr/>
        </p:nvSpPr>
        <p:spPr>
          <a:xfrm>
            <a:off x="2000160" y="21420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39"/>
                </a:solidFill>
                <a:latin typeface="Century Schoolbook"/>
              </a:rPr>
              <a:t>Ход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2000160" y="1143000"/>
            <a:ext cx="621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накомство с определением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знакомление с областью определения и областью зна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ение по учебнику Алгебра 8 класс. Макарычев Ю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3"/>
          <p:cNvSpPr/>
          <p:nvPr/>
        </p:nvSpPr>
        <p:spPr>
          <a:xfrm>
            <a:off x="2143080" y="64296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e39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1857240" y="1928880"/>
            <a:ext cx="692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ь определения и область значений можно записать в виде 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 ; b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∞;a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(a;+∞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Г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брать из промежутка 1) или в множестве 2) (кроме точ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3"/>
          <p:cNvSpPr/>
          <p:nvPr/>
        </p:nvSpPr>
        <p:spPr>
          <a:xfrm>
            <a:off x="2000160" y="35712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e39"/>
                </a:solidFill>
                <a:latin typeface="Arial"/>
              </a:rPr>
              <a:t>Используем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5"/>
          <p:cNvSpPr/>
          <p:nvPr/>
        </p:nvSpPr>
        <p:spPr>
          <a:xfrm>
            <a:off x="2000160" y="1428840"/>
            <a:ext cx="607212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лгебра 8 класс. Макарычев Ю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лгебра 8 класс. Виленкин А. 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лгебра 8 класс. Мордкович А.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onstantia"/>
                <a:hlinkClick r:id="rId1"/>
              </a:rPr>
              <a:t>http://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onstantia"/>
                <a:hlinkClick r:id="rId2"/>
              </a:rPr>
              <a:t>http://www.uztes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Arial"/>
                <a:hlinkClick r:id="rId3"/>
              </a:rPr>
              <a:t>http://www.matform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onstantia"/>
                <a:hlinkClick r:id="rId4"/>
              </a:rPr>
              <a:t>http://www.pm298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4:47:09Z</dcterms:created>
  <dc:creator>Admin</dc:creator>
  <dc:description/>
  <dc:language>en-US</dc:language>
  <cp:lastModifiedBy>Admin</cp:lastModifiedBy>
  <dcterms:modified xsi:type="dcterms:W3CDTF">2010-05-30T12:05:44Z</dcterms:modified>
  <cp:revision>10</cp:revision>
  <dc:subject/>
  <dc:title>Слайд 1</dc:title>
</cp:coreProperties>
</file>